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5.png" ContentType="image/png"/>
  <Override PartName="/ppt/media/image8.jpeg" ContentType="image/jpeg"/>
  <Override PartName="/ppt/media/image22.png" ContentType="image/png"/>
  <Override PartName="/ppt/media/image21.wmf" ContentType="image/x-wmf"/>
  <Override PartName="/ppt/media/image19.gif" ContentType="image/gif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jpeg" ContentType="image/jpeg"/>
  <Override PartName="/ppt/media/image14.png" ContentType="image/png"/>
  <Override PartName="/ppt/media/image16.gif" ContentType="image/gif"/>
  <Override PartName="/ppt/media/image1.wmf" ContentType="image/x-wmf"/>
  <Override PartName="/ppt/media/image1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01292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201320" y="704520"/>
            <a:ext cx="4684680" cy="351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401292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0809-3054-48B0-9025-F8C9AEAB73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 - Hogs and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a look at the Teacher C popsicle stick activity, did you need the other members of your group to complete the tas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have to do something by yourself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everyone have the same amount of work to do?  Yes, all had to put 3 popsicle sticks dow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25% were working at once instead of Teacher A calling on studen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…we demonstrate…Christi st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…we demonstrate…Christi st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013280" y="8904240"/>
            <a:ext cx="3071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5B4-B45D-4FA9-9293-39890578AB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65A-C3FD-458C-9D32-02C665BF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B35-EBEB-4C35-8E0F-62871EC1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4B6-C104-4B74-9C3F-86F3E5CB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630-A2CA-4D43-B5C8-B8FE195E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3C1-351F-496A-AE01-605F6438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CA26-E385-4B17-9122-498CB184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1F52-8F9C-44F0-B4EE-963013D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E7DD-3020-4D10-BCD1-ABBF377B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1070-E8A4-46AB-A837-139B1045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36D-8F6B-456E-9F49-6519663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3A8C-69CD-44B6-A8EC-A6BB110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74E-0AA7-4042-9B3A-FE8CB09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157-87BE-4EB5-8C5B-9614975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2EF3-78DE-48ED-AFF1-78A1143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9BA-8CA7-405A-9147-8E422914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DD55-96C2-449C-A6B5-4A755185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D38D-81D3-4A6E-BEA9-4CB18754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BE06-9EEC-4892-89A2-1B67A275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097D-2AE2-40BE-A5D2-7E947EF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D4BA-09E4-4DBF-80C0-14D3891C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906E4-ABA5-453E-A8ED-34259D2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60F7-F4A3-4B9C-8550-D5BE006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14E-1226-4C7D-B62E-3DD12EF2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9BA2-D90E-4194-9623-FB5E71D1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59F5-B58E-42E4-A337-964D270B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AE29-D578-4B5B-A9FA-7976164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F3C0-DABD-4303-8400-7FEF709B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3F11-5742-4545-AC74-7FAE04DA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8DB1-EA26-44FA-9E3E-BB354D47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C9A8-A06F-4F87-9C01-A9D494A5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258-1D0E-419F-B973-3560069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764-6295-4EAE-82BA-F1A8963E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633-40A3-442F-9CE7-5C02CFAA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77E-6614-4B3A-9123-AC60A2C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488-7650-44CF-82E0-6B9CAA2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7BD-3E21-4CB8-9FB7-51C3405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285-A64C-439C-9DCD-35336C53060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1FBB-1337-4674-ACEA-AF337691B8C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19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22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E084-DF9C-46B5-844C-7D80F01ED2C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Qt_tzxZuBFO8LM&amp;tbnid=00KEjR5OMX55_M:&amp;ved=0CAUQjRw&amp;url=http%3A%2F%2Fblogs.globeuniversity.edu%2F2012%2F07%2F10%2Funlocking-the-key-to-teamwork%2F&amp;ei=iMhQUsC8J7bK4AOs5IHQCQ&amp;bvm=bv.53537100,d.dmg&amp;psig=AFQjCNGlr-vw0BdMQoXf_YgV_mbMzf_7JA&amp;ust=138111228672145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SSdeE41GSJvT6M&amp;tbnid=hDSzF5NSYn_HDM:&amp;ved=0CAUQjRw&amp;url=http%3A%2F%2Fbestclipartblog.com%2F17-ghost-clipart.html&amp;ei=28lQUoPpDPKs4AOO-IHQCA&amp;bvm=bv.53537100,d.dmg&amp;psig=AFQjCNELuUgrcArqQmJJjbchQuvBO_LNKg&amp;ust=1381112604841842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CX-CIQctuLw1zM&amp;tbnid=PEHux4xrJ1F4vM:&amp;ved=0CAUQjRw&amp;url=http%3A%2F%2Fwww.planhillsborough.org%2Fleaders-work-together-to-tackle-key-issues%2F&amp;ei=y8pQUpvcMIXG4APFh4DQDA&amp;bvm=bv.53537100,d.dmg&amp;psig=AFQjCNEEARtvp7hsnGu3qpv8tZHItXoExQ&amp;ust=138111285597705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0"/>
            <a:ext cx="9067680" cy="88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Cooperative Learning ~ The Real Deal</a:t>
            </a:r>
            <a:endParaRPr b="1" lang="en-US" sz="5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Ideas to Have Even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More Students Engaged!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2860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llison Smerka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181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hristi Pagano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5" descr="00361040"/>
          <p:cNvPicPr/>
          <p:nvPr/>
        </p:nvPicPr>
        <p:blipFill>
          <a:blip r:embed="rId1"/>
          <a:stretch/>
        </p:blipFill>
        <p:spPr>
          <a:xfrm>
            <a:off x="2666880" y="4800600"/>
            <a:ext cx="141444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198380"/>
          <p:cNvPicPr/>
          <p:nvPr/>
        </p:nvPicPr>
        <p:blipFill>
          <a:blip r:embed="rId2"/>
          <a:stretch/>
        </p:blipFill>
        <p:spPr>
          <a:xfrm>
            <a:off x="4952880" y="4800600"/>
            <a:ext cx="1224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B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question 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gives proj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say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as a team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elp each o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on it toge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7" name="Picture 9" descr="groupwork"/>
          <p:cNvPicPr/>
          <p:nvPr/>
        </p:nvPicPr>
        <p:blipFill>
          <a:blip r:embed="rId1"/>
          <a:stretch/>
        </p:blipFill>
        <p:spPr>
          <a:xfrm>
            <a:off x="3429000" y="1447920"/>
            <a:ext cx="51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C 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Student-to-student structured interac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341280" y="-4269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15" descr="working-together-lumix-art"/>
          <p:cNvPicPr/>
          <p:nvPr/>
        </p:nvPicPr>
        <p:blipFill>
          <a:blip r:embed="rId1"/>
          <a:stretch/>
        </p:blipFill>
        <p:spPr>
          <a:xfrm>
            <a:off x="5334120" y="2819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ff"/>
                </a:solidFill>
                <a:latin typeface="Comic Sans MS"/>
              </a:rPr>
              <a:t>P ositive Interdependenc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Comic Sans MS"/>
              </a:rPr>
              <a:t>I ndividual Accountability 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 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Comic Sans MS"/>
              </a:rPr>
              <a:t>S imultaneous Interac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0880" y="533520"/>
            <a:ext cx="853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ff"/>
                </a:solidFill>
                <a:latin typeface="Comic Sans MS"/>
              </a:rPr>
              <a:t>Kagan’s Cooperative Learning</a:t>
            </a: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Picture 4" descr="MC900240217[1]"/>
          <p:cNvPicPr/>
          <p:nvPr/>
        </p:nvPicPr>
        <p:blipFill>
          <a:blip r:embed="rId1"/>
          <a:stretch/>
        </p:blipFill>
        <p:spPr>
          <a:xfrm>
            <a:off x="4038480" y="5105520"/>
            <a:ext cx="14479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90720" y="15235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help necessary to complete work?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85800" y="1219320"/>
            <a:ext cx="80773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Positive </a:t>
            </a:r>
            <a:br>
              <a:rPr sz="5400"/>
            </a:b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Interdependence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9" name="Picture 7" descr="27-team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3124080"/>
            <a:ext cx="58676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individual public performance required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1219320"/>
            <a:ext cx="7924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Individual Accountability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2" name="Picture 7" descr="ghost-clipart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505320"/>
            <a:ext cx="227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5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5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9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w equal is the participation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34" name="Picture 10" descr="PieChart_Cooper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4267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percent of students are overtly active at onc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28600" y="121932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Comic Sans MS"/>
              </a:rPr>
              <a:t>Simultaneous Interaction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Picture 5" descr="om_st_nht"/>
          <p:cNvPicPr/>
          <p:nvPr/>
        </p:nvPicPr>
        <p:blipFill>
          <a:blip r:embed="rId1"/>
          <a:stretch/>
        </p:blipFill>
        <p:spPr>
          <a:xfrm>
            <a:off x="1371600" y="3352680"/>
            <a:ext cx="586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Quiz-Quiz-Trade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6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914400" y="1981080"/>
            <a:ext cx="746748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 quizzes a partn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 gets praised or coach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 gets quizzed by his/her partn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s switch car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Look for “drive-bys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1603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“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Great job!</a:t>
            </a: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”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 Phrases 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6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2743200"/>
            <a:ext cx="7772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Honk honk!  Good job good buddy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You’re </a:t>
            </a:r>
            <a:r>
              <a:rPr b="1" i="1" lang="en-US" sz="3400" spc="-1" strike="noStrike">
                <a:solidFill>
                  <a:srgbClr val="f8f8f8"/>
                </a:solidFill>
                <a:latin typeface="Comic Sans MS"/>
              </a:rPr>
              <a:t>grate grate grate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Sparkle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¡Buen trabajo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1216080" cy="1398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322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152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ffff"/>
                </a:solidFill>
                <a:latin typeface="Comic Sans MS"/>
              </a:rPr>
              <a:t>Grudgeball</a:t>
            </a:r>
            <a:endParaRPr b="0" lang="en-US" sz="7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(Created by Kara Wilkins…not in packet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828800"/>
            <a:ext cx="77724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s are broken up into tea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ach team begins with 10 poi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ALL</a:t>
            </a: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 students talk within their groups to come up with an answ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Teacher rolls the dic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If group is correct, they take 2 points (or 4 or 5) off of other tea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523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iscuss the reasoning behind using Cooperative Learn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Understand at least 3 different Cooperative Learning structur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rainstorm ideas on how you can use various Cooperative Learning structures in your clas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762120" y="533520"/>
            <a:ext cx="78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19080">
                  <a:solidFill>
                    <a:srgbClr val="f8f8f8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9881b1"/>
                    </a:gs>
                  </a:gsLst>
                  <a:lin ang="5400000"/>
                </a:gradFill>
                <a:latin typeface="Arial Black"/>
              </a:rPr>
              <a:t>Session Objectives</a:t>
            </a:r>
            <a:endParaRPr b="1" lang="en-US" sz="4900" spc="1" strike="noStrike">
              <a:ln w="19080">
                <a:solidFill>
                  <a:srgbClr val="f8f8f8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9881b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79" name="Picture 5" descr="MC900299691[1]"/>
          <p:cNvPicPr/>
          <p:nvPr/>
        </p:nvPicPr>
        <p:blipFill>
          <a:blip r:embed="rId1"/>
          <a:stretch/>
        </p:blipFill>
        <p:spPr>
          <a:xfrm>
            <a:off x="6400800" y="4648320"/>
            <a:ext cx="2286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914400" y="456480"/>
            <a:ext cx="7655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Talking Chips</a:t>
            </a:r>
            <a:endParaRPr b="1" lang="en-US" sz="6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7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295280" y="2057400"/>
            <a:ext cx="70106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2 chips per studen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001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Free flow of idea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001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DISCUSS: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  What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SUPER POWERS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 would you like to have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Picture 4" descr="MC900232247[1]"/>
          <p:cNvPicPr/>
          <p:nvPr/>
        </p:nvPicPr>
        <p:blipFill>
          <a:blip r:embed="rId1"/>
          <a:stretch/>
        </p:blipFill>
        <p:spPr>
          <a:xfrm>
            <a:off x="5867280" y="457200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ee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14040" y="533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omic Sans MS"/>
              </a:rPr>
              <a:t>Silly Sport:  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omic Sans MS"/>
              </a:rPr>
              <a:t>Freeze Tag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90720" y="259092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3" name="Picture 8" descr="Name:  Frozen-frozen-freeze-winter-smiley-emoticon-000590-large.gif&#10;Views: 1643&#10;Size:  13.4 KB"/>
          <p:cNvPicPr/>
          <p:nvPr/>
        </p:nvPicPr>
        <p:blipFill>
          <a:blip r:embed="rId1"/>
          <a:stretch/>
        </p:blipFill>
        <p:spPr>
          <a:xfrm>
            <a:off x="1981080" y="2743200"/>
            <a:ext cx="5029200" cy="29559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6400800" y="380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Comic Sans MS"/>
                <a:ea typeface="Arial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  <a:ea typeface="Arial"/>
              </a:rPr>
              <a:t>(Page 16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9"/>
          <p:cNvSpPr/>
          <p:nvPr/>
        </p:nvSpPr>
        <p:spPr>
          <a:xfrm>
            <a:off x="3429000" y="2362320"/>
            <a:ext cx="3200400" cy="297180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94920" y="5335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ffff"/>
                </a:solidFill>
                <a:latin typeface="Comic Sans MS"/>
              </a:rPr>
              <a:t>Snowball War</a:t>
            </a:r>
            <a:endParaRPr b="0" lang="en-US" sz="59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2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0" y="2209680"/>
            <a:ext cx="746748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ch student creates a 5 question quiz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the answers on the bac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a “snowball war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ck up the nearest “snowball”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answers on the fro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ck answers with the back</a:t>
            </a: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2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Picture 6" descr="MC900357169[1]"/>
          <p:cNvPicPr/>
          <p:nvPr/>
        </p:nvPicPr>
        <p:blipFill>
          <a:blip r:embed="rId1"/>
          <a:stretch/>
        </p:blipFill>
        <p:spPr>
          <a:xfrm>
            <a:off x="457200" y="2743200"/>
            <a:ext cx="17524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"/>
          <p:cNvSpPr txBox="1"/>
          <p:nvPr/>
        </p:nvSpPr>
        <p:spPr>
          <a:xfrm>
            <a:off x="762120" y="2057400"/>
            <a:ext cx="784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What have you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learne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today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447920" y="457200"/>
            <a:ext cx="6400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RoundRobin </a:t>
            </a:r>
            <a:endParaRPr b="1" lang="en-US" sz="65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5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11" descr="MC900282178[1]"/>
          <p:cNvPicPr/>
          <p:nvPr/>
        </p:nvPicPr>
        <p:blipFill>
          <a:blip r:embed="rId1"/>
          <a:stretch/>
        </p:blipFill>
        <p:spPr>
          <a:xfrm>
            <a:off x="3767040" y="4572000"/>
            <a:ext cx="1546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"/>
          <p:cNvPicPr/>
          <p:nvPr/>
        </p:nvPicPr>
        <p:blipFill>
          <a:blip r:embed="rId1"/>
          <a:srcRect l="23134" t="34557" r="47850" b="23038"/>
          <a:stretch/>
        </p:blipFill>
        <p:spPr>
          <a:xfrm>
            <a:off x="990720" y="380880"/>
            <a:ext cx="7126200" cy="6096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Thank you for 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joining us!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65" name="Picture 3" descr="j0078766"/>
          <p:cNvPicPr/>
          <p:nvPr/>
        </p:nvPicPr>
        <p:blipFill>
          <a:blip r:embed="rId1"/>
          <a:stretch/>
        </p:blipFill>
        <p:spPr>
          <a:xfrm>
            <a:off x="3200400" y="3581280"/>
            <a:ext cx="2819520" cy="277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5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123" descr="MC900060316[1]"/>
          <p:cNvPicPr/>
          <p:nvPr/>
        </p:nvPicPr>
        <p:blipFill>
          <a:blip r:embed="rId1"/>
          <a:stretch/>
        </p:blipFill>
        <p:spPr>
          <a:xfrm>
            <a:off x="2286000" y="457200"/>
            <a:ext cx="4950000" cy="5791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WordArt 2122"/>
          <p:cNvSpPr txBox="1"/>
          <p:nvPr/>
        </p:nvSpPr>
        <p:spPr>
          <a:xfrm>
            <a:off x="990720" y="1066680"/>
            <a:ext cx="6933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442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Quiet Signal</a:t>
            </a:r>
            <a:endParaRPr b="1" lang="en-US" sz="4900" spc="1" strike="noStrike">
              <a:ln w="442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6781680" y="22860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1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77760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5" name="WordArt 2122"/>
          <p:cNvSpPr txBox="1"/>
          <p:nvPr/>
        </p:nvSpPr>
        <p:spPr>
          <a:xfrm>
            <a:off x="457200" y="762120"/>
            <a:ext cx="8288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Based on previous experiences,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how would you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describe 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Cooperative Learning?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6324480" y="152280"/>
            <a:ext cx="32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Picture 6" descr="MC900431560[1]"/>
          <p:cNvPicPr/>
          <p:nvPr/>
        </p:nvPicPr>
        <p:blipFill>
          <a:blip r:embed="rId1"/>
          <a:stretch/>
        </p:blipFill>
        <p:spPr>
          <a:xfrm>
            <a:off x="3657600" y="3962520"/>
            <a:ext cx="243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Forming Groups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4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0120" y="35812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Face 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7619760" y="3047760"/>
            <a:ext cx="10666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96080" y="4267080"/>
            <a:ext cx="99072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05320" y="5715000"/>
            <a:ext cx="23619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Shoulder 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5288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42900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828800" y="2286000"/>
          <a:ext cx="5715000" cy="2895480"/>
        </p:xfrm>
        <a:graphic>
          <a:graphicData uri="http://schemas.openxmlformats.org/drawingml/2006/table">
            <a:tbl>
              <a:tblPr/>
              <a:tblGrid>
                <a:gridCol w="2849400"/>
                <a:gridCol w="28656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DSC03530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2122"/>
          <p:cNvSpPr txBox="1"/>
          <p:nvPr/>
        </p:nvSpPr>
        <p:spPr>
          <a:xfrm>
            <a:off x="609480" y="2057400"/>
            <a:ext cx="8001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442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TRIANGLE</a:t>
            </a:r>
            <a:endParaRPr b="1" lang="en-US" sz="4900" spc="1" strike="noStrike">
              <a:ln w="442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6324480" y="228600"/>
            <a:ext cx="32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2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AutoShape 6"/>
          <p:cNvSpPr/>
          <p:nvPr/>
        </p:nvSpPr>
        <p:spPr>
          <a:xfrm rot="1468800">
            <a:off x="3123720" y="4343400"/>
            <a:ext cx="2895840" cy="1523880"/>
          </a:xfrm>
          <a:prstGeom prst="triangle">
            <a:avLst>
              <a:gd name="adj" fmla="val 10000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AutoShape 7"/>
          <p:cNvSpPr/>
          <p:nvPr/>
        </p:nvSpPr>
        <p:spPr>
          <a:xfrm rot="1296600">
            <a:off x="761760" y="1143000"/>
            <a:ext cx="2057400" cy="106668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AutoShape 8"/>
          <p:cNvSpPr/>
          <p:nvPr/>
        </p:nvSpPr>
        <p:spPr>
          <a:xfrm rot="20978400">
            <a:off x="3733920" y="533160"/>
            <a:ext cx="2666880" cy="1676160"/>
          </a:xfrm>
          <a:prstGeom prst="triangle">
            <a:avLst>
              <a:gd name="adj" fmla="val 40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3"/>
          <p:cNvSpPr/>
          <p:nvPr/>
        </p:nvSpPr>
        <p:spPr>
          <a:xfrm>
            <a:off x="533520" y="533520"/>
            <a:ext cx="7772400" cy="5638680"/>
          </a:xfrm>
          <a:prstGeom prst="triangle">
            <a:avLst>
              <a:gd name="adj" fmla="val 5323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8153280" y="457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3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457200" y="457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 Black"/>
              </a:rPr>
              <a:t>2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 Black"/>
              <a:ea typeface="Arial Black"/>
            </a:endParaRPr>
          </a:p>
        </p:txBody>
      </p:sp>
      <p:sp>
        <p:nvSpPr>
          <p:cNvPr id="208" name="Line 6"/>
          <p:cNvSpPr/>
          <p:nvPr/>
        </p:nvSpPr>
        <p:spPr>
          <a:xfrm flipH="1">
            <a:off x="2361960" y="3657600"/>
            <a:ext cx="42670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4343400" y="9907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210" name="WordArt 8"/>
          <p:cNvSpPr txBox="1"/>
          <p:nvPr/>
        </p:nvSpPr>
        <p:spPr>
          <a:xfrm>
            <a:off x="4343400" y="38098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 Black"/>
              </a:rPr>
              <a:t>4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 Black"/>
              <a:ea typeface="Arial Black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410080" y="152280"/>
            <a:ext cx="2514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2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A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tudents raise ha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calls on one stude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ne student answ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respo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4" name="Picture 4" descr="MC900335624[1]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6:17:45Z</dcterms:created>
  <dc:creator>twesterberg</dc:creator>
  <dc:description/>
  <dc:language>en-US</dc:language>
  <cp:lastModifiedBy>Allison</cp:lastModifiedBy>
  <dcterms:modified xsi:type="dcterms:W3CDTF">2016-03-05T05:26:37Z</dcterms:modified>
  <cp:revision>435</cp:revision>
  <dc:subject/>
  <dc:title>Three Mistakes Made in Implementing Instructional Models</dc:title>
</cp:coreProperties>
</file>